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39B-1BCE-4D51-9A4A-301D8B469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ит аудиозапись – шум мо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опе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ы верно отгадали слово и вот мы плывем на корабл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опе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сейчас предлагаю закрыть глаза и послушаем шум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ышим свежим, прохладным воздухом, поднимем руки вверх, вдохнем через нос, опустим руки и выдохнем рт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7B4-1084-4819-B83E-D252C673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B69-C82B-45B5-B5E5-0FBB7924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7A9-C92C-4A1F-B8D0-9B9500C4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4DC-A8A9-4574-B70F-6B308B1B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DFAB-50E6-4FB0-BCF3-1B745B92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49D-7B83-4D7F-9B22-EF97FCD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F652-B20E-4237-8FF9-841C7BAA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F904-52FE-4724-99AB-DBE968EB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2B74-F8DC-437B-A97D-97A1078E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6B60-02A2-40F9-A8E3-26B42FD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1524-CBCF-490E-A1C6-B80A1AD9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C3E-63D6-4538-A0F7-E93D17ED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FAE3-30FC-40B7-94A2-0412262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3B07-2130-4D0A-B258-4388C27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3C78-49F1-4125-BECC-A446989E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9A68-0796-4033-A7A9-0FD68D2E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4AC-7864-4919-9FA4-AC96BC45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7001-AEEF-4338-9440-5E0F807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565F-675C-4FCC-9FBC-8B55142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E8FD-155A-4859-8E83-29B8A822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E80D9-F00C-4578-BE87-4C405647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29BB-7364-42B9-9E3E-C9674BD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710-27CA-4230-AB84-92F3F4D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8D50-F501-40C1-B5FA-BA2D47A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93D0-BED4-4E85-9DE6-0D3C2E4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82F3-1632-4A05-80B8-130F9EB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92E6-FA65-4B3D-9354-525E723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FCBF-196E-4EB5-95A2-7ED093E9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440D-BEE8-4811-A867-BEBA78AA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9B8A-3B70-4081-B9E6-EEF9C67C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D4FF-3AD8-49E3-BFA3-324F15B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1FBA-4152-4B40-AF91-C982D8D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4BB1-D580-4F2E-B700-63A076A9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197-D87F-4BB2-BD9C-5969611C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590A-9B7D-4810-B562-9204176E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8716-ABAC-4959-A0DC-A6C1FBF6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BC99-A311-46C2-9A8D-1DE0998D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61A2-36F1-43AE-A827-CA0CE7A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3FF5-92E9-4CFC-9D6C-4BDACA2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657C-0EBF-49DF-99D8-5DEC2C2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E77A-8E72-4AFE-81CE-45CDB7B5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E9D3-1C45-466B-B7CA-0175B424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E9D6-280A-4A5F-96D0-45BCE6B3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115C-7C9D-40DD-A9A7-3BFB3A4B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76A-479E-4E5E-9C37-67B0034D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658A-4C74-4403-9354-DCE5EE10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F79B-7F98-4794-ADC8-F2CB485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6753-AD06-4864-90E4-D0EC8C9D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A03BD-C483-4059-AA91-B315BB6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9902-2A97-4C42-BFD7-E5B0641A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5C39C-EDB7-4B97-8CA9-9DB418F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6AAF5-AA09-4010-9F08-4D7C0E8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D1C0-CF95-4BD9-992B-845C893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8339-AC4B-4B6A-9C59-CE87C50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A3E7-9B3F-43FA-9249-BFEE05C2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ED0-EA32-4EBD-9143-3D2D3F8D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FBA9-921F-4EEF-9458-5C90CA34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34BD9-CFDA-4B50-B3CA-8DE7938A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A2762-98DC-4BB4-96C5-654F65E6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2BF47-A757-4701-B1E3-08B66811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F4FE-2286-472F-8290-67E837CB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3288C-A067-4004-9778-ABCE7AC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484F-D58A-4687-A4AC-65999909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3D05-EB42-4DE6-B983-8ED1E81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3F33-F81E-4C4D-9223-868DEC1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D739-DB52-464D-887A-27E15B8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3A6-DB33-404C-916D-0BD9D53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0CBA9-F732-4EEB-AD46-EEAF181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1A60-47C0-4425-8078-1AB520BA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5943B-8E9C-483A-8C4C-B648502A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F4E-B1DC-4018-9D4D-CE43AA15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CD7-C33C-4EBD-ADE2-BA0B550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0AC-075F-4AB1-BE97-721CD5C34AE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924E-D2CD-499F-9969-95C0BF8097C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2F8-7697-4E43-9E4E-B0A21E19BF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301-DDCB-488E-979C-AFB241B6338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230-7E87-40D1-8B10-3DC1695FA4A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3E0D-A2C1-4A24-BFF3-03D13266A2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29.jpeg"/><Relationship Id="rId7" Type="http://schemas.openxmlformats.org/officeDocument/2006/relationships/image" Target="../media/image31.jpeg"/><Relationship Id="rId8" Type="http://schemas.openxmlformats.org/officeDocument/2006/relationships/image" Target="../media/image30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609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685800"/>
            <a:ext cx="777240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34520" y="685800"/>
            <a:ext cx="0" cy="55627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5800" y="6248520"/>
            <a:ext cx="78487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5800" y="685800"/>
            <a:ext cx="0" cy="55627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85800" y="685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85440" y="685800"/>
            <a:ext cx="15228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838080"/>
            <a:ext cx="0" cy="525780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838080"/>
            <a:ext cx="75438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838080"/>
            <a:ext cx="0" cy="525780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37720" y="6095880"/>
            <a:ext cx="75438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-228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Открытое логопедическое занятие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в подготовительной группе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детского сада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для детей с ОНР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«Путешествие в страну Знаний»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Учитель – логопед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                  Костина Ольга Викторовн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457200"/>
            <a:ext cx="914400" cy="1447920"/>
          </a:xfrm>
          <a:custGeom>
            <a:avLst/>
            <a:gdLst>
              <a:gd name="textAreaLeft" fmla="*/ 376560 w 914400"/>
              <a:gd name="textAreaRight" fmla="*/ 537840 w 914400"/>
              <a:gd name="textAreaTop" fmla="*/ 596520 h 1447920"/>
              <a:gd name="textAreaBottom" fmla="*/ 8514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029200"/>
            <a:ext cx="914400" cy="1447920"/>
          </a:xfrm>
          <a:custGeom>
            <a:avLst/>
            <a:gdLst>
              <a:gd name="textAreaLeft" fmla="*/ 376560 w 914400"/>
              <a:gd name="textAreaRight" fmla="*/ 537840 w 914400"/>
              <a:gd name="textAreaTop" fmla="*/ 596520 h 1447920"/>
              <a:gd name="textAreaBottom" fmla="*/ 8514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5943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10108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Palatino Linotype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Palatino Linotype"/>
              </a:rPr>
              <a:t>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МШРАВ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СОЛНЦ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ШТПМ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Palatino Linotyp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Palatino Linotype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Palatino Linotype"/>
              </a:rPr>
              <a:t>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МШРАВ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ШТПМ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Palatino Linotyp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Palatino Linotype"/>
              </a:rPr>
              <a:t>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ГЛЕРС ДШИКАВ ЦВЕТЫ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Palatino Linotype"/>
              </a:rPr>
              <a:t>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ГЛЕРС ДШИКАВ </a:t>
            </a: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ЦВЕТЫ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Palatino Linotype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Palatino Linotype"/>
              </a:rPr>
              <a:t>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ЛЬБЛ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МАРТ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ЛШЕУ ДЖЛ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Palatino Linotyp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Palatino Linotype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Palatino Linotype"/>
              </a:rPr>
              <a:t>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ЛЬБЛ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МАРТ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ЛШЕУ ДЖЛ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Palatino Linotyp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Palatino Linotype"/>
              </a:rPr>
              <a:t> 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ОЛНЬТДН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РУЧЕЙ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ШОТП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Palatino Linotyp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Palatino Linotype"/>
              </a:rPr>
              <a:t> 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ОЛНЬТДН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РУЧЕЙ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ШОТП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Palatino Linotyp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1447920" cy="11908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564000" y="765000"/>
            <a:ext cx="1447560" cy="12700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251460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42920" y="1125360"/>
            <a:ext cx="1676520" cy="121932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1403280" y="1125360"/>
            <a:ext cx="36720" cy="2160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92360" y="907560"/>
            <a:ext cx="0" cy="304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35280" y="836640"/>
            <a:ext cx="0" cy="4572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979640" y="836640"/>
            <a:ext cx="76320" cy="5335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332000" y="980640"/>
            <a:ext cx="75960" cy="3812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19890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19280" y="184464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155736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22050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9280" y="1484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547640" y="980640"/>
            <a:ext cx="0" cy="3812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2195280" y="836640"/>
            <a:ext cx="75960" cy="5335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258920" y="1052280"/>
            <a:ext cx="0" cy="6094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11280" y="1052640"/>
            <a:ext cx="76320" cy="3808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24000" y="20606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2892600" y="788040"/>
            <a:ext cx="316080" cy="990360"/>
          </a:xfrm>
          <a:prstGeom prst="upArrow">
            <a:avLst>
              <a:gd name="adj1" fmla="val 50000"/>
              <a:gd name="adj2" fmla="val 783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76720" y="1125360"/>
            <a:ext cx="1155960" cy="304920"/>
          </a:xfrm>
          <a:prstGeom prst="rightArrow">
            <a:avLst>
              <a:gd name="adj1" fmla="val 50000"/>
              <a:gd name="adj2" fmla="val 947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493600">
            <a:off x="1908000" y="3789000"/>
            <a:ext cx="295560" cy="1143000"/>
          </a:xfrm>
          <a:prstGeom prst="upArrow">
            <a:avLst>
              <a:gd name="adj1" fmla="val 50000"/>
              <a:gd name="adj2" fmla="val 966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236232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 rot="341400">
            <a:off x="6300720" y="1052640"/>
            <a:ext cx="1582920" cy="11620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116000" y="170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8360" y="191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6553080" y="3505320"/>
            <a:ext cx="15606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348000" cy="2438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3.12139E-006 L -0.58334 -0.58821 E">
                                      <p:cBhvr>
                                        <p:cTn id="6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2219 L -0.00834 -0.57711 E">
                                      <p:cBhvr>
                                        <p:cTn id="10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6763E-006 L -0.54167 -1.6763E-006 E">
                                      <p:cBhvr>
                                        <p:cTn id="14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30834 -0.35555 E">
                                      <p:cBhvr>
                                        <p:cTn id="18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296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29600" cy="1442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952880" y="5791320"/>
            <a:ext cx="990720" cy="1066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5791320"/>
            <a:ext cx="990720" cy="1066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5791320"/>
            <a:ext cx="990360" cy="1066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5791320"/>
            <a:ext cx="990360" cy="1066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791320"/>
            <a:ext cx="990720" cy="1066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5791320"/>
            <a:ext cx="990720" cy="1066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3.33333E-006 -0.41064 E">
                                      <p:cBhvr>
                                        <p:cTn id="30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-0.16667 -0.41064 E">
                                      <p:cBhvr>
                                        <p:cTn id="3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3064E-006 L 0.15 -0.41064 E">
                                      <p:cBhvr>
                                        <p:cTn id="38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109 L -0.1625 -0.41064 E">
                                      <p:cBhvr>
                                        <p:cTn id="42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1109 L 0.1375 -0.41064 E">
                                      <p:cBhvr>
                                        <p:cTn id="46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111 L -0.0125 -0.41064 E">
                                      <p:cBhvr>
                                        <p:cTn id="50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057400" y="52578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3352680" y="4624560"/>
            <a:ext cx="1524240" cy="2233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4876920" y="4218120"/>
            <a:ext cx="1447560" cy="2639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6324480" y="5065560"/>
            <a:ext cx="1371600" cy="1792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7696080" y="533412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6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7222 L -3.33333E-006 -0.40555 E">
                                      <p:cBhvr>
                                        <p:cTn id="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4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8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1.11022E-016 -0.33334 E">
                                      <p:cBhvr>
                                        <p:cTn id="7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en-US" sz="8800" spc="-1" strike="noStrike">
                <a:solidFill>
                  <a:srgbClr val="cc0000"/>
                </a:solidFill>
                <a:latin typeface="Palatino Linotype"/>
              </a:rPr>
              <a:t>Д Р У Ж Б А</a:t>
            </a:r>
            <a:endParaRPr b="0" lang="en-US" sz="8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1447920" cy="1190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564000" y="765000"/>
            <a:ext cx="1447560" cy="1270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251460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042920" y="1125360"/>
            <a:ext cx="1676520" cy="121932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1403280" y="1125360"/>
            <a:ext cx="36720" cy="2160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692360" y="907560"/>
            <a:ext cx="0" cy="304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835280" y="836640"/>
            <a:ext cx="0" cy="4572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979640" y="836640"/>
            <a:ext cx="76320" cy="5335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332000" y="980640"/>
            <a:ext cx="75960" cy="3812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19890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19280" y="184464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55736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22050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19280" y="1484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547640" y="980640"/>
            <a:ext cx="0" cy="3812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195280" y="836640"/>
            <a:ext cx="75960" cy="5335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58920" y="1052280"/>
            <a:ext cx="0" cy="6094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411280" y="1052640"/>
            <a:ext cx="76320" cy="3808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24000" y="20606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892600" y="788040"/>
            <a:ext cx="316080" cy="990360"/>
          </a:xfrm>
          <a:prstGeom prst="upArrow">
            <a:avLst>
              <a:gd name="adj1" fmla="val 50000"/>
              <a:gd name="adj2" fmla="val 783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76720" y="1125360"/>
            <a:ext cx="1155960" cy="304920"/>
          </a:xfrm>
          <a:prstGeom prst="rightArrow">
            <a:avLst>
              <a:gd name="adj1" fmla="val 50000"/>
              <a:gd name="adj2" fmla="val 947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493600">
            <a:off x="1908000" y="3789000"/>
            <a:ext cx="295560" cy="1143000"/>
          </a:xfrm>
          <a:prstGeom prst="upArrow">
            <a:avLst>
              <a:gd name="adj1" fmla="val 50000"/>
              <a:gd name="adj2" fmla="val 966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236232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 rot="341400">
            <a:off x="6300720" y="1052640"/>
            <a:ext cx="1582920" cy="1162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16000" y="170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91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6"/>
          <a:stretch/>
        </p:blipFill>
        <p:spPr>
          <a:xfrm>
            <a:off x="6553080" y="3505320"/>
            <a:ext cx="15606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90920" y="4013280"/>
            <a:ext cx="4064040" cy="284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69942E-006 L 0.25434 -0.38659 E">
                                      <p:cBhvr>
                                        <p:cTn id="82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8844E-006 L -0.26024 -0.38844 E">
                                      <p:cBhvr>
                                        <p:cTn id="86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2209680"/>
            <a:ext cx="838440" cy="1524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2133720"/>
            <a:ext cx="838080" cy="15238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408600">
            <a:off x="5790960" y="2133720"/>
            <a:ext cx="838080" cy="1523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343800">
            <a:off x="6857640" y="2133360"/>
            <a:ext cx="838080" cy="152388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057400"/>
            <a:ext cx="838080" cy="1523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2057400"/>
            <a:ext cx="83808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429000"/>
            <a:ext cx="685800" cy="380880"/>
          </a:xfrm>
          <a:custGeom>
            <a:avLst/>
            <a:gdLst>
              <a:gd name="textAreaLeft" fmla="*/ 160920 w 685800"/>
              <a:gd name="textAreaRight" fmla="*/ 524160 w 68580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38280" y="3276720"/>
            <a:ext cx="685800" cy="380880"/>
          </a:xfrm>
          <a:custGeom>
            <a:avLst/>
            <a:gdLst>
              <a:gd name="textAreaLeft" fmla="*/ 160920 w 685800"/>
              <a:gd name="textAreaRight" fmla="*/ 524160 w 68580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3429000"/>
            <a:ext cx="685800" cy="380880"/>
          </a:xfrm>
          <a:custGeom>
            <a:avLst/>
            <a:gdLst>
              <a:gd name="textAreaLeft" fmla="*/ 160920 w 685800"/>
              <a:gd name="textAreaRight" fmla="*/ 524160 w 68580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3352680"/>
            <a:ext cx="685800" cy="381240"/>
          </a:xfrm>
          <a:custGeom>
            <a:avLst/>
            <a:gdLst>
              <a:gd name="textAreaLeft" fmla="*/ 160920 w 685800"/>
              <a:gd name="textAreaRight" fmla="*/ 524160 w 685800"/>
              <a:gd name="textAreaTop" fmla="*/ 44640 h 381240"/>
              <a:gd name="textAreaBottom" fmla="*/ 239040 h 381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3352680"/>
            <a:ext cx="685800" cy="381240"/>
          </a:xfrm>
          <a:custGeom>
            <a:avLst/>
            <a:gdLst>
              <a:gd name="textAreaLeft" fmla="*/ 160920 w 685800"/>
              <a:gd name="textAreaRight" fmla="*/ 524160 w 685800"/>
              <a:gd name="textAreaTop" fmla="*/ 44640 h 381240"/>
              <a:gd name="textAreaBottom" fmla="*/ 239040 h 381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3352680"/>
            <a:ext cx="685800" cy="381240"/>
          </a:xfrm>
          <a:custGeom>
            <a:avLst/>
            <a:gdLst>
              <a:gd name="textAreaLeft" fmla="*/ 160920 w 685800"/>
              <a:gd name="textAreaRight" fmla="*/ 524160 w 685800"/>
              <a:gd name="textAreaTop" fmla="*/ 44640 h 381240"/>
              <a:gd name="textAreaBottom" fmla="*/ 239040 h 381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5280" y="549360"/>
            <a:ext cx="8381880" cy="579096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990720"/>
            <a:ext cx="114300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1066680"/>
            <a:ext cx="1295280" cy="312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76520" y="1066680"/>
            <a:ext cx="1371600" cy="312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1066680"/>
            <a:ext cx="1143000" cy="312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990720"/>
            <a:ext cx="129528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1520" y="1143000"/>
            <a:ext cx="129528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3400" y="4149720"/>
            <a:ext cx="4564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9640" y="2421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8360" y="981000"/>
            <a:ext cx="1143000" cy="312444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3581280"/>
            <a:ext cx="990360" cy="685800"/>
          </a:xfrm>
          <a:custGeom>
            <a:avLst/>
            <a:gdLst>
              <a:gd name="textAreaLeft" fmla="*/ 232560 w 990360"/>
              <a:gd name="textAreaRight" fmla="*/ 757080 w 99036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19280" y="2421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92360" y="1052640"/>
            <a:ext cx="1371600" cy="3124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35280" y="3645000"/>
            <a:ext cx="990360" cy="685800"/>
          </a:xfrm>
          <a:custGeom>
            <a:avLst/>
            <a:gdLst>
              <a:gd name="textAreaLeft" fmla="*/ 232560 w 990360"/>
              <a:gd name="textAreaRight" fmla="*/ 757080 w 99036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ра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3640" y="1052640"/>
            <a:ext cx="1295280" cy="31240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3657600"/>
            <a:ext cx="990720" cy="685800"/>
          </a:xfrm>
          <a:custGeom>
            <a:avLst/>
            <a:gdLst>
              <a:gd name="textAreaLeft" fmla="*/ 232920 w 990720"/>
              <a:gd name="textAreaRight" fmla="*/ 757440 w 9907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ч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1066680"/>
            <a:ext cx="1143000" cy="312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24280" y="3657600"/>
            <a:ext cx="990720" cy="685800"/>
          </a:xfrm>
          <a:custGeom>
            <a:avLst/>
            <a:gdLst>
              <a:gd name="textAreaLeft" fmla="*/ 232920 w 990720"/>
              <a:gd name="textAreaRight" fmla="*/ 757440 w 9907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23493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0360" y="981000"/>
            <a:ext cx="1295640" cy="31244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3809880"/>
            <a:ext cx="990720" cy="685800"/>
          </a:xfrm>
          <a:custGeom>
            <a:avLst/>
            <a:gdLst>
              <a:gd name="textAreaLeft" fmla="*/ 232920 w 990720"/>
              <a:gd name="textAreaRight" fmla="*/ 757440 w 9907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674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391520" y="1143000"/>
            <a:ext cx="1295280" cy="3124080"/>
          </a:xfrm>
          <a:prstGeom prst="ellipse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24720" y="3716280"/>
            <a:ext cx="990720" cy="685800"/>
          </a:xfrm>
          <a:custGeom>
            <a:avLst/>
            <a:gdLst>
              <a:gd name="textAreaLeft" fmla="*/ 232920 w 990720"/>
              <a:gd name="textAreaRight" fmla="*/ 757440 w 9907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268360" y="4267080"/>
            <a:ext cx="33912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657600" y="4343400"/>
            <a:ext cx="4564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181480" y="4343400"/>
            <a:ext cx="1519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64800" y="4437000"/>
            <a:ext cx="3038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8001000" y="4419720"/>
            <a:ext cx="15192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b5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611600">
            <a:off x="1258920" y="4436640"/>
            <a:ext cx="360360" cy="86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933800">
            <a:off x="468360" y="5157720"/>
            <a:ext cx="71892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39400">
            <a:off x="2484000" y="4076640"/>
            <a:ext cx="358920" cy="1152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9654800">
            <a:off x="1834920" y="4005360"/>
            <a:ext cx="28872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9566600">
            <a:off x="3203280" y="4220640"/>
            <a:ext cx="360360" cy="86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308800">
            <a:off x="3850920" y="4581000"/>
            <a:ext cx="360360" cy="10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9564200">
            <a:off x="4716000" y="4076640"/>
            <a:ext cx="287280" cy="93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2456400">
            <a:off x="5435280" y="3933360"/>
            <a:ext cx="288720" cy="10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387800">
            <a:off x="6804000" y="4005000"/>
            <a:ext cx="360360" cy="129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9635000">
            <a:off x="6084720" y="4508640"/>
            <a:ext cx="35892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137800">
            <a:off x="8174160" y="4505400"/>
            <a:ext cx="352440" cy="10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9317600">
            <a:off x="7451280" y="4508280"/>
            <a:ext cx="360360" cy="10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481800" cy="46245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1447920" cy="1190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564000" y="765000"/>
            <a:ext cx="1447560" cy="1270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042920" y="1125360"/>
            <a:ext cx="1676520" cy="121932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403280" y="1125360"/>
            <a:ext cx="36720" cy="2160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92360" y="907560"/>
            <a:ext cx="0" cy="304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835280" y="836640"/>
            <a:ext cx="0" cy="4572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79640" y="836640"/>
            <a:ext cx="76320" cy="5335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332000" y="980640"/>
            <a:ext cx="75960" cy="3812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19890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84464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95640" y="155736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22050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19280" y="1484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47640" y="980640"/>
            <a:ext cx="0" cy="3812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195280" y="836640"/>
            <a:ext cx="75960" cy="5335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258920" y="1052280"/>
            <a:ext cx="0" cy="6094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411280" y="1052640"/>
            <a:ext cx="76320" cy="3808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24000" y="20606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2892600" y="788040"/>
            <a:ext cx="316080" cy="990360"/>
          </a:xfrm>
          <a:prstGeom prst="upArrow">
            <a:avLst>
              <a:gd name="adj1" fmla="val 50000"/>
              <a:gd name="adj2" fmla="val 783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76720" y="1125360"/>
            <a:ext cx="1155960" cy="304920"/>
          </a:xfrm>
          <a:prstGeom prst="rightArrow">
            <a:avLst>
              <a:gd name="adj1" fmla="val 50000"/>
              <a:gd name="adj2" fmla="val 947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493600">
            <a:off x="1908000" y="3789000"/>
            <a:ext cx="295560" cy="1143000"/>
          </a:xfrm>
          <a:prstGeom prst="upArrow">
            <a:avLst>
              <a:gd name="adj1" fmla="val 50000"/>
              <a:gd name="adj2" fmla="val 966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236232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 rot="341400">
            <a:off x="6300720" y="1052640"/>
            <a:ext cx="1582920" cy="1162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16000" y="170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68360" y="191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6553080" y="3505320"/>
            <a:ext cx="15606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cc6600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1143000" cy="18957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1181160" cy="19051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181160" cy="19047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276720" y="114300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7391520" y="1295280"/>
            <a:ext cx="1143000" cy="1819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5943600" y="1219320"/>
            <a:ext cx="1143000" cy="190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1908000" y="3716280"/>
            <a:ext cx="1105200" cy="19051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8"/>
          <a:stretch/>
        </p:blipFill>
        <p:spPr>
          <a:xfrm>
            <a:off x="539640" y="371628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9"/>
          <a:stretch/>
        </p:blipFill>
        <p:spPr>
          <a:xfrm>
            <a:off x="4716360" y="386064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0"/>
          <a:stretch/>
        </p:blipFill>
        <p:spPr>
          <a:xfrm>
            <a:off x="3348000" y="3789360"/>
            <a:ext cx="1066680" cy="19051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7467480" y="388620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tretch/>
        </p:blipFill>
        <p:spPr>
          <a:xfrm>
            <a:off x="6019920" y="380988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31214E-006 L 0.15208 -0.00555 E">
                                      <p:cBhvr>
                                        <p:cTn id="130" dur="1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485 L -0.14167 0.00139 E">
                                      <p:cBhvr>
                                        <p:cTn id="134" dur="1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6 L 0.15417 0.00555 E">
                                      <p:cBhvr>
                                        <p:cTn id="138" dur="1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4509E-006 L -0.15833 -0.0111 E">
                                      <p:cBhvr>
                                        <p:cTn id="142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5.78035E-007 L 0.1625 -0.00555 E">
                                      <p:cBhvr>
                                        <p:cTn id="146" dur="1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104 L -0.15834 -0.00971 E">
                                      <p:cBhvr>
                                        <p:cTn id="150" dur="1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526E-006 L 0.15 0.00555 E">
                                      <p:cBhvr>
                                        <p:cTn id="154" dur="1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8555E-006 L -0.15208 0.00555 E">
                                      <p:cBhvr>
                                        <p:cTn id="158" dur="1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526E-006 L 0.15 -0.00555 E">
                                      <p:cBhvr>
                                        <p:cTn id="162" dur="1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0555 L -0.15833 -0.0111 E">
                                      <p:cBhvr>
                                        <p:cTn id="166" dur="1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185E-006 L 0.1625 0.00555 E">
                                      <p:cBhvr>
                                        <p:cTn id="170" dur="1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555 L -0.14167 -0.0111 E">
                                      <p:cBhvr>
                                        <p:cTn id="174" dur="1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976720" cy="4465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24000" y="333360"/>
            <a:ext cx="8604000" cy="2303640"/>
          </a:xfrm>
          <a:custGeom>
            <a:avLst/>
            <a:gdLst>
              <a:gd name="textAreaLeft" fmla="*/ 2151000 w 8604000"/>
              <a:gd name="textAreaRight" fmla="*/ 6453000 w 8604000"/>
              <a:gd name="textAreaTop" fmla="*/ 68040 h 2303640"/>
              <a:gd name="textAreaBottom" fmla="*/ 172800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cc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40000" y="40464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С Т Р А Н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71640" y="119700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З Н А Н И 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09480" y="685800"/>
            <a:ext cx="78487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58200" y="685800"/>
            <a:ext cx="0" cy="55627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685800"/>
            <a:ext cx="0" cy="55627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09480" y="6248520"/>
            <a:ext cx="784872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В презентации использованы рисунки детей подготовительной группы детского сада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Исполнитель: Костина Ольга Викторовна, 235-545-239, учитель – логопед МДОУ № 50,                  г. Ставрополь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Palatino Linotype"/>
              </a:rPr>
              <a:t>    </a:t>
            </a: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С </a:t>
            </a:r>
            <a:endParaRPr b="0" lang="en-US" sz="8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Palatino Linotype"/>
              </a:rPr>
              <a:t>    </a:t>
            </a: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С  П </a:t>
            </a:r>
            <a:endParaRPr b="0" lang="en-US" sz="8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Palatino Linotype"/>
              </a:rPr>
              <a:t>    </a:t>
            </a: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С  П  О  </a:t>
            </a:r>
            <a:endParaRPr b="0" lang="en-US" sz="8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Palatino Linotype"/>
              </a:rPr>
              <a:t>    </a:t>
            </a: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С  П  О  Р</a:t>
            </a:r>
            <a:r>
              <a:rPr b="1" lang="en-US" sz="8800" spc="-1" strike="noStrike">
                <a:solidFill>
                  <a:srgbClr val="cc3300"/>
                </a:solidFill>
                <a:latin typeface="Palatino Linotype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Palatino Linotype"/>
              </a:rPr>
              <a:t>    </a:t>
            </a: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С  П  О  Р  Т</a:t>
            </a:r>
            <a:endParaRPr b="0" lang="en-US" sz="8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8:05:40Z</dcterms:created>
  <dc:creator/>
  <dc:description/>
  <dc:language>en-US</dc:language>
  <cp:lastModifiedBy>ольга</cp:lastModifiedBy>
  <dcterms:modified xsi:type="dcterms:W3CDTF">2012-01-01T14:18:41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